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281-DF25-4CFB-AC3C-1BA1704A1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575-98CE-4AE9-BB6D-C4A0ADAD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A9A99-FC2E-4AEE-AF81-15740A28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169117-2CC0-4435-ACD0-61BC0DFFE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891D35-6B2A-4682-8AFE-D33583E2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505F7A-9C99-4AF5-AC70-1CEEE8B9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EBE926-E5FF-41BA-A03E-8C31F3AC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0E8C4A-F42E-4030-A85E-324555A7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7847D-8F68-43C5-A705-09D75EBD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806149-F375-46A9-AF1D-472C2AC09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341D0-11CA-4D96-8CAD-24F32707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D6A1D6-5803-414E-937B-BE85F93A4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20E1-C0E9-4613-B804-05CF916FA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60BDE-DFF3-4174-9954-64C52E2F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EE22CD-40D3-473C-9303-A3037529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8FAC6-8ADD-4316-9190-7AFF5FD2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20808-3700-473E-BCEA-6716754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122FD-1125-497F-9A0B-6141DA132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61575-FEA5-483C-80A7-67415537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B6CEA-28FB-47AA-8E18-020DD3A50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7D4E84-5DFE-470C-BBBE-7E4E3CCB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5423E1-470A-4B17-A20F-B7582324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CDAB57-4E87-4557-BB9F-1C70B8F6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A1D6-8C89-40A4-AF0F-9425CCC45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4451F-261A-4B27-8E5F-C2E88CC53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640B47-1900-4C28-91C6-E6A83BE6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36BC8F-1E65-4AE5-B87C-A246A291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1F0F5-FA3B-4758-ABD0-4ECDDE3F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3606B4-C427-4CD7-9B20-F27CF8CC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39E054-C6DB-41A9-854B-D9AA5A4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A6640-8187-4BEC-9C3C-0982B8E2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D0BABB-75ED-4043-A5E6-993EE6010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5C836-5EE4-4B8B-A0E0-9D608946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6D767B-E581-4F91-B609-A2DF1097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BE75-B553-43E7-B5A3-CD5E94688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831E4-3BEC-44B1-A0BD-9692CFC1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C4B034-70A7-4D45-87DB-60C64872B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D2A20-EBD8-461F-A42B-1B3A1DCB2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1F31FB-A193-4247-840F-980FFA4C8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21E626-5826-4570-A792-F1AF6533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5A8E69-D7FD-4A8F-A615-85A31EDDD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D41FBB-2A48-4A69-A937-4F831D2A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B28946-9662-4CB6-B35E-1707AEF8C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44637B-17E0-47D6-B549-1B00D9A6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73770B-DB5A-4933-91A5-4CB72BCFB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F384A-4304-4708-A687-2E999B60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7BA58E-2CC7-4D0A-83DC-7B3DC3DF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5E8871-E89A-4717-81DB-1F58F8C2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7C552E-962D-499C-B18D-D1FE950CE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EACC0-F5CB-4F47-BF24-D20F31D6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C15985-F22B-4D59-88D4-AF427CCEB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C0A5-41CB-4CD7-9A7D-9BA7CEC3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328D1-245C-413C-BC31-14CD821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E79F-EA72-4673-AE26-846A371E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7BD2-81AF-49D0-9B6F-2A7D2EF31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BEE56-DEAA-405C-BD12-4DB06966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6252-65DB-4D7F-BCEE-2FE5B87A2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07F9-95A2-4FD0-8B17-1BDD7E11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E59-BE11-4F45-A650-EE9546752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2C849-11BD-4A8A-BAF5-D30E88A5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7DE1-DB07-4B97-8321-B6352B43A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5CB7-17A2-40DD-9F6C-576854999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99776-DEDC-4CF9-9A0A-D13C5F2BD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26EAB5-05E4-431B-8C36-6BE44D750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58C75-793F-468C-A70A-C1891160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1AD84-58AC-4466-8DDF-E5E2464FA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464E7-CA64-41FA-AB16-8D400B27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0BFB-8BC6-420E-966D-439D9F48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DDE4E4-4052-4D6F-B96C-DA48F0CB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102FD-62CE-482F-9818-FDD0E358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2A5DE-6A4A-41E1-9ED1-9ECFB6B1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A579D-2E3D-4027-AC33-925D8884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88EAFE-21A7-45F4-BA23-352298D61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070256-AE6E-4324-AC70-BDD4BC161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C3BC03-A8AE-44BA-81C3-8F808358B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6B081-79A9-406A-842D-C0AA70B1E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66E8C-4166-44D2-AB00-D17F4D2C4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2E652-2C02-459D-8F93-7A69CC07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BB5A-D224-4C08-BF0B-14B6BC78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D91C9-E26D-4143-B48A-3F7D01C2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EA5E0-6081-4245-A425-CB90C88A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DF562-35F9-4C39-A05C-9C669B7D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E9756-75AF-42AD-827A-BC7BD85D6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B31873-F1CA-420D-8E8C-29D203C57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F7233-08DB-482E-BBD8-25322BEB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74666-5108-4240-B8B3-36825CDB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ABA2B-673B-4A14-9B43-2CD60DCF3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B6EA89-030D-4053-8793-FF60879DB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80659-FF5D-4775-9A27-D9BF14FB6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340D-534F-4134-9ABA-450F8AB97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DC579-FD80-4663-BEF0-976D5C50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2D506B-AF26-4F90-856D-0E62CDC3B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E2E6A-8443-47D8-AED9-7F5A3515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8BC5B-32BF-4135-A811-CCEB6BB54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97D74-C6C0-4515-BD93-076CF7EF5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5AC0B-82EB-4AF2-B7B0-CDC97272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9D1CE-AE20-4073-AE3E-FB0A02239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ADEB1-5214-453B-A08B-FB69B487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EE9BD-0C59-4685-B452-82EF2FFC6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870D1-B3CA-4330-9AE6-4B873BD0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F725-D88C-4A95-B9A2-6B8C99A9A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A73658-7DBA-4F1B-9AA0-1EEE68BE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BFE46-8626-49B5-B00E-D56D7C2F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857858-1D1B-43B8-9F06-84930CFA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A816D-2419-4D8E-A43E-38F299735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D7880E-FD0C-49B4-BA4D-8CF88CF98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627872-792C-4633-91DE-38A2C858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4FCCD-E943-438E-B514-E026CC81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3B5A1-7675-4648-B742-404F2456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3FDFFA-7FBC-4674-8A3D-B1B32F0A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53262-C2DA-49A8-85D9-9B8E63DC1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CD8-0EE0-4704-A7C2-724DFD1B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5F8146-E826-4C1D-AEA2-671DA952B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11355-2A41-405C-87D4-332807AD3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B07DEA-FA78-42C5-A4A5-B011FBD43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F3824-76AA-48D0-8E6E-86FA3F46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3C964E-0DD7-4E62-AC4F-0BB0B8914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405606-A1FC-4497-A5BF-C8E400B53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D06A5-CDFD-41E0-895D-32FF0AD61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CCC664-50B5-4E28-ABD2-96C30BC03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5A6D5-6B96-4D9D-BAD2-11177F82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DBE47-63A8-46CF-829D-A3ACFCC57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DD2-4C41-41D3-8984-4A7AB40D7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7C6FD6-A17E-469E-BC0B-8CE84EB9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1896AD-593B-45B1-B07D-C56422E66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4A7744-1210-4BAC-9FC1-7542409D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2A94D-BC2C-4146-ACEE-D7028E268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9A0DE4-EF4E-4DA0-AB21-DF39DF4B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56FE9A-F3AC-4EA2-9587-C1059AB8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0023A8-0C19-407D-95FB-463A0EB4F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702EC-9B1C-43BC-BF2B-9B2B86FE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A86390-0717-437F-A0F7-950C8F688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B2E45B-2E34-43AF-A02F-B0A8B5DD7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E843-083D-4FD6-89E7-B1BBCBF8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686C00-7659-40E5-884E-6DB72BB48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9EBE5-A3FF-42BD-95FB-64EA7DA32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11A8D-239A-42FE-B6EF-5650E889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B9100-4045-4EDB-B292-1784353A1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DBE8B-C9C7-4E74-8FF4-C3A26AD1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6DE3BA-951E-43D0-8AD8-905EB3941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CBA2F-001A-4547-A0E8-D0D3DF0F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C71662-8F1C-4B4E-A25B-264C7663E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F3378-2656-42FB-84B0-37F952285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8D121C-A2AC-4DDB-8E34-EFA93B0CF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92288-9B90-458C-A0D9-DE5C40A513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9FE3-535F-41CB-BEA9-70F8DAF247A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6B0F-BEEF-4EA2-AC7C-530AD37354BE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B860-A71F-4CFA-B364-FF020A81BB6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177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22CE-10BE-4BED-8C70-90356B52E45D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4AFB-E8A0-4D02-9AC8-160FD64DC9B1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34BA-948C-4898-ADB2-EAEF856531A9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5924-47CD-4CD0-8DBE-CA83CDDBFCB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19E70-6D27-4FF3-B10E-3593D6AB19D0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46F2-61D9-498A-9CEC-B27C1FED41A5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B729D-E43C-425D-8616-12962707BEA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ce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D309B-E6E4-4D13-BB31-531B633BB66A}" type="slidenum">
              <a:rPr b="0" lang="en-U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84120" y="2593800"/>
            <a:ext cx="9144000" cy="14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1284120" y="417996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me Surnam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Name Surnam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Name Surname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1284120" y="5427720"/>
            <a:ext cx="9144000" cy="69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ddress of Institution/Compa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Address of Institution/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0-13T09:13:31Z</dcterms:created>
  <dc:creator>Mendizza, Ana</dc:creator>
  <dc:description/>
  <dc:language>en-US</dc:language>
  <cp:lastModifiedBy>Blaznik, Barbara</cp:lastModifiedBy>
  <dcterms:modified xsi:type="dcterms:W3CDTF">2023-10-23T08:58:43Z</dcterms:modified>
  <cp:revision>15</cp:revision>
  <dc:subject/>
  <dc:title>TITLE</dc:title>
</cp:coreProperties>
</file>